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3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2E91-3D95-4ECC-8773-10A7E7AD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F60-CCA1-446F-B8E8-7867C614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64C8-61DB-4383-8948-AC173EB8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089B-727A-43C0-A0F0-D9C59CCC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20D4-1D4B-4E81-908D-2EB737EF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E66B-36EA-4C87-AAAD-3C59D32E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E764-D86D-452C-8E13-37015AF8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F83D-93A8-4531-92D7-97649870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E0FC-6AF2-42EC-8470-7BD32C0B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56F7-1C83-45CB-80C2-7C7B4930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BCA9-2EB6-4293-AA64-D42B7899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AF4E-62A6-4CE6-8CDE-BECCC6E0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AD2B-0930-4506-8082-2CDC0B3E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C766-BE5E-4A12-86BD-02E84414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D1E0-C040-467F-8559-F4A70C8F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D3FD-30A2-4FF3-AE5C-254ABAD4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DE3F-A6AE-4D3C-903F-B0BDCD39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27717-0CCA-4E22-98F7-9771E76E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08E20-70C0-4ED4-BBD5-4A99FCF8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C1329-6292-45E1-A72A-42F5CE50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9C6495-DFF7-4832-A115-D3020BE1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589C6-6230-4DB5-9DE0-7B02562C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C0B-4B37-4F92-BBFA-5EB8E0E4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B78BE-69AC-4A4D-A2FF-BF44D2F0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B0157-6036-434E-B0ED-88BB76DA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61729-A394-4A0D-8D50-57C31971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8D4D1-1B1B-4ACD-9808-8774245F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0694B-46DC-4FF4-AF03-368F0CB1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56B90-D319-46C1-9258-613B2ED0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8B2EE-E6F6-4A8E-A540-47CB3718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E96D2-C503-4BD8-890F-8C8127E1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053F0-D057-4024-9751-7ED9B430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49DFF-7FCB-424E-88BA-F10671A4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AB6-712A-4768-B8C4-8322A251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BBDD2-00F2-4D7A-9F15-B9A92CB3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0CE45-3419-4303-93B0-64555001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FB4CF-CADD-4C8C-A366-51165C2D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99D1F-AE16-47F8-978F-FF4423E8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1B12E-50A2-4407-9D23-B1239EDB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40C08-A68E-41C3-A768-8DB4B20E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7C8BD-6963-4C4B-BCFA-C3CDBB9C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0BFF5-5A52-4D93-A177-2BBEBBFB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2F50F-627C-425E-97B5-05E4B48C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42327-0CF5-4EAA-A4EC-4AF9D534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8D1-3670-44B9-9DC8-BEAAF887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AFE4DE-5851-468C-A429-1B9A3933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EDEA5-A973-47AE-AE76-76778AAA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CB78C5-9691-4498-944F-3B0089CD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238A31-1FDC-4874-836E-DFFC1DB1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4F9F1C-6DC7-4CC5-9C11-298CAB83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A2CD26-DCF7-4735-9C80-63964B06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46411B-720D-4055-AC0C-ECC9A3A7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AFB544-8D73-4CCF-A290-F0EB0403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F45E86-D014-4BBC-9754-F1D16B4C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E8C851-B05B-441C-A63D-621014E7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D680-7336-447A-ADDD-3CB8879A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0DCB37-E055-45EF-B9F9-F7798162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BC3E13-28EA-4C77-9B3F-94A69E64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14E786-0DE1-4A4F-BD04-541F5025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E57B62-2EC3-4585-8DA0-5A5DB0F6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42A108-78BF-43A9-A214-7FE57A72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4D4588-1504-485D-8132-AD08B15D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304C89-9358-474F-ADE8-75716FA8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662765-069D-4FE6-8843-16CFD019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2A7C99-247C-4EE3-8DEC-66223885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EDAE6E-51C9-404A-9B06-8EAE6106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659-3D9D-4397-A353-BB76513F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26B4CF-C359-4D06-90C2-7B2BF68A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E98DDF-1D3C-4806-A29C-E16DE4CE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5571F8-BEC9-446B-81CC-D2C1561F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29E5A8-29E4-4A5A-B259-50B76E9C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D789E1-42A4-40EA-A230-D6C0BA5B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462B23-D6C9-40BB-8CC9-91373E8C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C3914D-0C10-4992-A7E0-88B1F06C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6395D-5E6C-4102-AAD9-E9119C9B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BEA4F3-2927-4221-A292-C3A16533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349D5A-C9CC-4BF2-B571-FCA1D246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E74-35A1-4BF6-8A1E-48EAE87B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6B698A-3503-4CC1-B8CA-3DB1D8DB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76D79A-F4AA-4C1A-ACB2-9EAF1814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E43F81-2479-465A-B3C4-7DC77619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9BFB8-D412-45C3-9E94-22483D5D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C69D63-13FE-4C1F-A92E-528F3C7E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C500-5AEC-4E3E-9EC6-82310741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56B4-8086-4404-8385-C080423ABFB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0577-8B41-4555-B0A4-7E703F7715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9275-5152-4760-B611-E2E7ECF0AF7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C5AD-C6F4-496E-8CF2-834E4F59299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D8CF-9C80-4343-9651-10924D1E91A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786F-62D8-4635-B97B-37F7731B6E8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1B37-5816-4C2A-A77D-F744562B3BE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ИГРОВЫЕ ТЕХНОЛОГИИ</a:t>
            </a:r>
            <a:br>
              <a:rPr sz="3600"/>
            </a:b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В ОБУЧЕНИИ ИНОСТРАННОМУ ЯЗЫКУ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                         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КАРТА ПУТЕШЕСТВ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Line 4"/>
          <p:cNvSpPr/>
          <p:nvPr/>
        </p:nvSpPr>
        <p:spPr>
          <a:xfrm>
            <a:off x="3132000" y="19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5"/>
          <p:cNvCxnSpPr/>
          <p:nvPr/>
        </p:nvCxnSpPr>
        <p:spPr>
          <a:xfrm>
            <a:off x="4571640" y="14839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9" name="WordArt 8"/>
          <p:cNvSpPr txBox="1"/>
          <p:nvPr/>
        </p:nvSpPr>
        <p:spPr>
          <a:xfrm>
            <a:off x="179280" y="1125360"/>
            <a:ext cx="2737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BC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0" name="WordArt 11"/>
          <p:cNvSpPr txBox="1"/>
          <p:nvPr/>
        </p:nvSpPr>
        <p:spPr>
          <a:xfrm>
            <a:off x="4932360" y="1341360"/>
            <a:ext cx="3745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ИТАЙ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1" name="WordArt 13"/>
          <p:cNvSpPr txBox="1"/>
          <p:nvPr/>
        </p:nvSpPr>
        <p:spPr>
          <a:xfrm rot="21391800">
            <a:off x="610920" y="4076280"/>
            <a:ext cx="3000240" cy="2000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ДЫХАЙ-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2" name="WordArt 14"/>
          <p:cNvSpPr txBox="1"/>
          <p:nvPr/>
        </p:nvSpPr>
        <p:spPr>
          <a:xfrm>
            <a:off x="4140360" y="4076640"/>
            <a:ext cx="4724280" cy="22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ВАЙТЕ ПОЗНАКОМИМСЯ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383" name="AutoShape 16"/>
          <p:cNvCxnSpPr/>
          <p:nvPr/>
        </p:nvCxnSpPr>
        <p:spPr>
          <a:xfrm flipV="1" rot="10800000">
            <a:off x="2699640" y="2203920"/>
            <a:ext cx="2235600" cy="18025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AutoShape 21"/>
          <p:cNvCxnSpPr>
            <a:endCxn id="382" idx="0"/>
          </p:cNvCxnSpPr>
          <p:nvPr/>
        </p:nvCxnSpPr>
        <p:spPr>
          <a:xfrm>
            <a:off x="1763640" y="4292640"/>
            <a:ext cx="2377440" cy="12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5" name="Line 22"/>
          <p:cNvSpPr/>
          <p:nvPr/>
        </p:nvSpPr>
        <p:spPr>
          <a:xfrm flipH="1">
            <a:off x="2987280" y="2205000"/>
            <a:ext cx="18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75f6d"/>
                </a:solidFill>
                <a:latin typeface="Century Schoolbook"/>
              </a:rPr>
              <a:t>ABC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5699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11" descr="1364963318_alik_moya_pervaya_angliyskaya_azbuka2"/>
          <p:cNvPicPr/>
          <p:nvPr/>
        </p:nvPicPr>
        <p:blipFill>
          <a:blip r:embed="rId1"/>
          <a:stretch/>
        </p:blipFill>
        <p:spPr>
          <a:xfrm>
            <a:off x="1619280" y="1484280"/>
            <a:ext cx="585144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ЧИТАЙ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entury Schoolbook"/>
              </a:rPr>
              <a:t>skip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entury Schoolbook"/>
              </a:rPr>
              <a:t>pig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entury Schoolbook"/>
              </a:rPr>
              <a:t>slim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entury Schoolbook"/>
              </a:rPr>
              <a:t>seven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entury Schoolbook"/>
              </a:rPr>
              <a:t>Tim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entury Schoolbook"/>
              </a:rPr>
              <a:t>swim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857840" y="1142640"/>
            <a:ext cx="4038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entury Schoolbook"/>
              </a:rPr>
              <a:t>carte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entury Schoolbook"/>
              </a:rPr>
              <a:t>orange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entury Schoolbook"/>
              </a:rPr>
              <a:t>poule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entury Schoolbook"/>
              </a:rPr>
              <a:t>poisson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entury Schoolbook"/>
              </a:rPr>
              <a:t>drapeau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entury Schoolbook"/>
              </a:rPr>
              <a:t>cochon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ФИЗКУЛЬТМИНУТ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3" name="Picture 8" descr="i?id=363503855-38-72"/>
          <p:cNvPicPr/>
          <p:nvPr/>
        </p:nvPicPr>
        <p:blipFill>
          <a:blip r:embed="rId1"/>
          <a:stretch/>
        </p:blipFill>
        <p:spPr>
          <a:xfrm>
            <a:off x="4929120" y="1785960"/>
            <a:ext cx="1170000" cy="1655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330026694634_36674ee2ab3_full"/>
          <p:cNvPicPr/>
          <p:nvPr/>
        </p:nvPicPr>
        <p:blipFill>
          <a:blip r:embed="rId2"/>
          <a:stretch/>
        </p:blipFill>
        <p:spPr>
          <a:xfrm>
            <a:off x="179280" y="1628640"/>
            <a:ext cx="3354480" cy="2513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Children_Day_vector_wallpaper_0168013a"/>
          <p:cNvPicPr/>
          <p:nvPr/>
        </p:nvPicPr>
        <p:blipFill>
          <a:blip r:embed="rId3"/>
          <a:stretch/>
        </p:blipFill>
        <p:spPr>
          <a:xfrm>
            <a:off x="5143680" y="4214880"/>
            <a:ext cx="30654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ДАВАЙТЕ ПОЗНАКОМИМСЯ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979280" y="1557360"/>
            <a:ext cx="533556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Рассказ о себ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9" descr="MP900439482[1]"/>
          <p:cNvPicPr/>
          <p:nvPr/>
        </p:nvPicPr>
        <p:blipFill>
          <a:blip r:embed="rId1"/>
          <a:stretch/>
        </p:blipFill>
        <p:spPr>
          <a:xfrm>
            <a:off x="179280" y="2205000"/>
            <a:ext cx="2948040" cy="44164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2" descr="MP900439294[1]"/>
          <p:cNvPicPr/>
          <p:nvPr/>
        </p:nvPicPr>
        <p:blipFill>
          <a:blip r:embed="rId2"/>
          <a:stretch/>
        </p:blipFill>
        <p:spPr>
          <a:xfrm>
            <a:off x="5143680" y="2357280"/>
            <a:ext cx="27604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ЮРПРИЗ!!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1" name="Picture 4" descr="MC900190613[1]"/>
          <p:cNvPicPr/>
          <p:nvPr/>
        </p:nvPicPr>
        <p:blipFill>
          <a:blip r:embed="rId1"/>
          <a:stretch/>
        </p:blipFill>
        <p:spPr>
          <a:xfrm>
            <a:off x="179280" y="1628640"/>
            <a:ext cx="4038840" cy="4167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MC900424498[1]"/>
          <p:cNvPicPr/>
          <p:nvPr/>
        </p:nvPicPr>
        <p:blipFill>
          <a:blip r:embed="rId2"/>
          <a:stretch/>
        </p:blipFill>
        <p:spPr>
          <a:xfrm>
            <a:off x="5164200" y="2890800"/>
            <a:ext cx="1869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4" name="The Lion King - Bath Time (English)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51594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Le Roi Lion- Simba et Nala.mp4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51000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360" y="357120"/>
            <a:ext cx="61722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ИГРОВЫЕ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 ТЕХНОЛОГ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5640" y="1571400"/>
            <a:ext cx="61722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ПОДДЕРЖАНИЕ ИНТЕРЕСА К ИЗУЧАЕМОМУ МАТЕРИАЛУ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АКТИВИЗАЦИЯ ДЕЯТЕЛЬНОСТИ В ТЕЧЕНИЕ ВСЕГО УРОКА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ПОВЫШЕНИЕ МОТИВАЦИИ К ИЗУЧЕНИЮ ИНОСТРАННОГО ЯЗЫК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10920" y="571680"/>
            <a:ext cx="8281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            </a:t>
            </a: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ИГРА – ОСНОВНОЙ ВИД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ДЕЯТЕЛЬНОСТИ МЛАДШИХ ШКОЛЬНИКО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5" descr="7704497cd630d2fe3031a6635e573297"/>
          <p:cNvPicPr/>
          <p:nvPr/>
        </p:nvPicPr>
        <p:blipFill>
          <a:blip r:embed="rId1"/>
          <a:stretch/>
        </p:blipFill>
        <p:spPr>
          <a:xfrm>
            <a:off x="4500720" y="3000240"/>
            <a:ext cx="417024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5640" y="285840"/>
            <a:ext cx="61722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ФОНЕТИЧЕСКИЕ ИГР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11640" y="1857600"/>
            <a:ext cx="7643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Цель игры - произношение и    узнавание звук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5" descr="AjQQ5nxz2OFBZ_EeySvlrw&amp;mb=imgdb_preview_1703"/>
          <p:cNvPicPr/>
          <p:nvPr/>
        </p:nvPicPr>
        <p:blipFill>
          <a:blip r:embed="rId1"/>
          <a:stretch/>
        </p:blipFill>
        <p:spPr>
          <a:xfrm>
            <a:off x="3000240" y="3929040"/>
            <a:ext cx="4756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ЛЕКСИЧЕСКИЕ ИГР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тренировать учащихся в употреблении лексики в ситуациях приближенных к естественной обстановке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активизировать речемыслительную деятельность учащихс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познакомить учащихся с сочетаемостью сло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5" descr="Ceran-Kids-Unterricht"/>
          <p:cNvPicPr/>
          <p:nvPr/>
        </p:nvPicPr>
        <p:blipFill>
          <a:blip r:embed="rId1"/>
          <a:stretch/>
        </p:blipFill>
        <p:spPr>
          <a:xfrm>
            <a:off x="6643800" y="3857760"/>
            <a:ext cx="186372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5640" y="428760"/>
            <a:ext cx="6172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ГРАММАТИЧЕСКИЕ ИГР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2285640" y="1857240"/>
            <a:ext cx="617220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научить учащихся употреблению речевых образцов, содержащих определенные грамматические трудност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создать естественную ситуацию для употребления данного речевого образц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развить речевую, творческую активность учащих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             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ОРФОГРАФИЧЕСКИЕ ИГР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6840" y="1197000"/>
            <a:ext cx="77151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формирование и развитие речевых навыков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освоение правописания иностранных слов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тренировка памяти учащихся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воспроизведение орфографического образа слова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5" descr="46"/>
          <p:cNvPicPr/>
          <p:nvPr/>
        </p:nvPicPr>
        <p:blipFill>
          <a:blip r:embed="rId1"/>
          <a:stretch/>
        </p:blipFill>
        <p:spPr>
          <a:xfrm>
            <a:off x="4976640" y="3860640"/>
            <a:ext cx="416736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5640" y="213840"/>
            <a:ext cx="61722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ИГРОВЫЕ ТЕХНОЛОГ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999720" y="928440"/>
            <a:ext cx="5000760" cy="50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Облегчают введение и закрепление языкового материала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Способствуют формированию УУД 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Вызывают положительные эмоции у обучающих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5" descr="%25D0%25A4%25D0%25BE%25D1%2582%25D0%25BE%25D0%25B3%25D1%2580%25D0%25B0%25D1%2584%25D0%25B8%25D1%258F9"/>
          <p:cNvPicPr/>
          <p:nvPr/>
        </p:nvPicPr>
        <p:blipFill>
          <a:blip r:embed="rId1"/>
          <a:stretch/>
        </p:blipFill>
        <p:spPr>
          <a:xfrm>
            <a:off x="6357960" y="857160"/>
            <a:ext cx="2286000" cy="3160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2" descr="zvet"/>
          <p:cNvPicPr/>
          <p:nvPr/>
        </p:nvPicPr>
        <p:blipFill>
          <a:blip r:embed="rId2"/>
          <a:stretch/>
        </p:blipFill>
        <p:spPr>
          <a:xfrm>
            <a:off x="4357800" y="4286160"/>
            <a:ext cx="306540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16000" y="1071360"/>
            <a:ext cx="7532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INTELLIGENT &amp;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INTELLIGENTS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499760" y="2071800"/>
            <a:ext cx="731988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Интеллектуальная игра по английскому и французскому язык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«Умники и умницы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6" descr=""/>
          <p:cNvPicPr/>
          <p:nvPr/>
        </p:nvPicPr>
        <p:blipFill>
          <a:blip r:embed="rId1"/>
          <a:stretch/>
        </p:blipFill>
        <p:spPr>
          <a:xfrm>
            <a:off x="6659640" y="115920"/>
            <a:ext cx="2016000" cy="1224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2266920" cy="1133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8" descr="MP900425487[1]"/>
          <p:cNvPicPr/>
          <p:nvPr/>
        </p:nvPicPr>
        <p:blipFill>
          <a:blip r:embed="rId3"/>
          <a:stretch/>
        </p:blipFill>
        <p:spPr>
          <a:xfrm>
            <a:off x="3714840" y="3429000"/>
            <a:ext cx="277164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0:25:54Z</dcterms:created>
  <dc:creator>FAMILY</dc:creator>
  <dc:description/>
  <dc:language>en-US</dc:language>
  <cp:lastModifiedBy>xim</cp:lastModifiedBy>
  <dcterms:modified xsi:type="dcterms:W3CDTF">2014-02-28T03:59:07Z</dcterms:modified>
  <cp:revision>12</cp:revision>
  <dc:subject/>
  <dc:title>Intelligent &amp; Intelligents.</dc:title>
</cp:coreProperties>
</file>