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95E-3B9A-49B6-84C4-5A185A6D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FF0E-1FB3-416C-91F4-F0493D3C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ED5E-DA42-4EED-BBC5-1DDC6C63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680F-A085-43F3-B7FA-3FF9D64E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30B-681D-434A-BC26-4C46ACCE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086D-F4DE-466A-A4FC-D250666B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3952-E153-48FB-B9BB-FCF3199E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85B2-EAC9-4ECA-BE12-DC653F55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F7C-D941-4C90-9283-CB6909E4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5F7-204A-44A1-A3C9-56466CAD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98A7-E148-40AD-A4A6-2D193057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532-81FC-48C7-9579-32A0FA21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9AA5-198A-4A7C-ABFB-00AB2CE7E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24720" y="5084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1962360" cy="1428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24000" y="501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164360" y="333360"/>
            <a:ext cx="170496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79280" y="5084640"/>
            <a:ext cx="1619280" cy="1428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924360" y="333360"/>
            <a:ext cx="164772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5867280" y="5157720"/>
            <a:ext cx="1419480" cy="1428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140360" y="5157720"/>
            <a:ext cx="133344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24000" y="115920"/>
            <a:ext cx="116208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5651640" y="26028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340000" y="1989000"/>
            <a:ext cx="4753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уквоград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033800" cy="3022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4032360" cy="3013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484360" y="3573360"/>
            <a:ext cx="439272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24000" y="692280"/>
            <a:ext cx="5492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сенка глас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оробышко гнез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деревья во дв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Ы, 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котёнка накор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 лесу кричит с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,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играет детв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запела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,Ё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ём мы для тог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нам вернуться к -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292720" y="3645000"/>
            <a:ext cx="151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-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 –Щ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У - Щ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836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Е Ё Ю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692280"/>
            <a:ext cx="2519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  В  Г  Д  З  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  Ф  К  Т  С  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92720" y="213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Ж  Ш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Ц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292428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Й  Ч  Щ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263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Ь  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3645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, ЦИ, 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8000" y="3068640"/>
            <a:ext cx="8567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8000" y="3860640"/>
            <a:ext cx="85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3068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3068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3068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3068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64000" y="3068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3068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85080" y="3068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3068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8000" y="3068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32000" y="3068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44000" y="3068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20000" y="3068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24360" y="3068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59280" y="3068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75640" y="314172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3068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7640" y="3068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3068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56360" y="3068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68360" y="3068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3068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220500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42100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лица глас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2421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пект соглас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17080" y="189000"/>
            <a:ext cx="34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у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75640" y="189000"/>
            <a:ext cx="30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зву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08000" y="256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244000" y="256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59280" y="260280"/>
            <a:ext cx="325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род Алфави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3284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45440" y="3213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19240" y="4005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005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Я    Е   Ё  Ю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47640" y="40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3213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    М    Н   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7080" y="321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3213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    В     Г     Д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Ж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51640" y="40053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6144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95640" y="4005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    Ф    К     Т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00" y="3213000"/>
            <a:ext cx="178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А   Э   О   У  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79640" y="3573360"/>
            <a:ext cx="217440" cy="19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979640" y="3933720"/>
            <a:ext cx="21600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56000" y="692280"/>
            <a:ext cx="4968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хорошо уметь чит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надо к маме приста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надо бабушку прос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чти, пожалуйста, проч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надо умолять сестриц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у, прочитай ещё стран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надо ждать, не надо зв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можно взять и прочи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443640" y="4941720"/>
            <a:ext cx="2571840" cy="1781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670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700360" y="765000"/>
            <a:ext cx="3332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флек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н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нравило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трудня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елю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кажу…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556000" y="549360"/>
            <a:ext cx="439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333360"/>
            <a:ext cx="961920" cy="9144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40720" y="333360"/>
            <a:ext cx="961920" cy="9144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5589720"/>
            <a:ext cx="961920" cy="9144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3068640"/>
            <a:ext cx="961920" cy="9144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85080" y="2997360"/>
            <a:ext cx="961920" cy="9144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050920" y="1268280"/>
            <a:ext cx="54007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5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9" dur="25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" dur="25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916360" y="281160"/>
            <a:ext cx="345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звенел и смолк звон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чинаем мы у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лыбнулись, потянули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уг на друга посмотр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спокойно, тихо с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2997360"/>
            <a:ext cx="87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моте учиться всегда пригод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асна птица пеньем, а человек умень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нья корень горе, да плод слад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948360" y="331920"/>
            <a:ext cx="1789200" cy="17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59120" y="208080"/>
            <a:ext cx="477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9280" y="3333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рта путеше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95280" y="2421000"/>
            <a:ext cx="73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42100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49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2349360"/>
            <a:ext cx="934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8920" y="270828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2349360"/>
            <a:ext cx="9144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ЛФАВ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270828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2349360"/>
            <a:ext cx="9144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270828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76720" y="2349360"/>
            <a:ext cx="8636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т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0360" y="2708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88000" y="2349360"/>
            <a:ext cx="936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68360" y="249228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899640" y="2492280"/>
            <a:ext cx="1429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270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Homepage"/>
          <p:cNvSpPr/>
          <p:nvPr/>
        </p:nvSpPr>
        <p:spPr>
          <a:xfrm>
            <a:off x="3492360" y="2349360"/>
            <a:ext cx="935280" cy="792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БВ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04000" y="2421000"/>
            <a:ext cx="587520" cy="5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476360" y="260280"/>
            <a:ext cx="6335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фавит - Азбук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832360" cy="4479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476360" y="260280"/>
            <a:ext cx="6335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фавит - Азбук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76360" y="260280"/>
            <a:ext cx="6335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фавит - Азбук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76360" y="260280"/>
            <a:ext cx="6335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фавит - Азбук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5877000"/>
            <a:ext cx="44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ьфа + бета или вета = алфав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825800" cy="3252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516720" y="26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 Солу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4825800" cy="2968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292720" y="954000"/>
            <a:ext cx="3672000" cy="2489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435640" y="3716280"/>
            <a:ext cx="34560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556000" y="189000"/>
            <a:ext cx="4124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авянская Азбу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571920" cy="5040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215040" y="907920"/>
            <a:ext cx="2497320" cy="2952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227640" y="4005360"/>
            <a:ext cx="2459160" cy="2736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192560" y="857160"/>
            <a:ext cx="14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6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5950080"/>
            <a:ext cx="3384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ирилл                      Мефод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пископ                        мо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067280" y="1484280"/>
            <a:ext cx="18097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417080" cy="4101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19280" y="4221000"/>
            <a:ext cx="568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ли Кирилл и Мефод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», «Ж», «Ц», «Ш»,«У», «Ю», «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5805360"/>
            <a:ext cx="87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вод: «азъ» - я; «буки» или «букы» - буквы, письмена; «веди» или «веде» от «ведити» - знать, ведать, позн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з буки ве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то значит «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 знаю букв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4292640"/>
            <a:ext cx="69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522936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рофонический способ запоми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334800"/>
            <a:ext cx="777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 приведённых фраз составляет азбучное  посл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«Азъ  буки  веде.  Глаголь  добро  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Живите  зело, земля,  и,  иже  како  люди,  мыслите  нашъ  онъ  покои.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Рцы  слово  твёрдо – укъ   фърътъ  хер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Цы, черве, шта  ъра  юсъ  яти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временном переводе это звучит та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«Я знаю буквы: письмо это достоя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Трудитесь усердно, земляне, как подобает разумным людям        постигайте мирозд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Несите слово убеждённо: знание – дар Божи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Дерзайте, вникайте, чтобы сущего свет постичь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967280" cy="2747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356000" y="3500280"/>
            <a:ext cx="46198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09:17:10Z</dcterms:created>
  <dc:creator>Георгий</dc:creator>
  <dc:description/>
  <dc:language>en-US</dc:language>
  <cp:lastModifiedBy>Георгий</cp:lastModifiedBy>
  <dcterms:modified xsi:type="dcterms:W3CDTF">2013-02-11T09:55:33Z</dcterms:modified>
  <cp:revision>10</cp:revision>
  <dc:subject/>
  <dc:title>Слайд 1</dc:title>
</cp:coreProperties>
</file>